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0698-4C47-4147-9E1F-AAB6858E1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8DA0-30DB-4495-81BB-E4DBE9AF7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E17D-44FF-45A6-BB25-60661B3FF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A811-955A-4480-A158-8E55BC1B0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ACF2-212C-4812-B463-4C05BCD5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2442B-8241-4F46-B07E-1680951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1EFE-4450-497D-8A03-54F8CE2F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351E-99E9-49AC-BE4D-90D252E9C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D93-3D24-4221-883E-691CD548E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B01-EEB7-4918-BFE7-51A70E2EF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13D7-2B07-45C3-99C9-3302FDA5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BB2-586A-4E16-A320-DDE38040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892E1-2A1A-4BB8-ADAE-9F048DF4AE2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Liceo</a:t>
            </a:r>
            <a:r>
              <a:rPr b="0" lang="en-US" sz="4400" spc="-1" strike="noStrike">
                <a:solidFill>
                  <a:srgbClr val="d90519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Francisco del Rosario Sánchez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Integrantes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04-15-18-21-24-31-4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Profesora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d90519"/>
                </a:solidFill>
                <a:latin typeface="Baskerville Old Face"/>
              </a:rPr>
              <a:t>Alba Castil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052640"/>
            <a:ext cx="57610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Baskerville Old Face"/>
              </a:rPr>
              <a:t>Presentación</a:t>
            </a:r>
            <a:endParaRPr b="0" i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042920" y="404640"/>
            <a:ext cx="6842160" cy="10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Estados Unido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59892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284720" y="2708280"/>
            <a:ext cx="40575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Estados Unidos los dominicanos son discriminados muchas veces por el color de piel, su cultura y su forma de ser y expresar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692360" y="1628640"/>
            <a:ext cx="525600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En Puerto Rico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03236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3672000" cy="26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Puerto Rico son considerados por muchos como ciudadanos de tercera clase y se les asocia con el aumento de la delincuencia en la isl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8360" y="2781360"/>
            <a:ext cx="3959280" cy="266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716360" y="2708280"/>
            <a:ext cx="36576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España son mirados de reojo y las mujeres dominicanas clasificadas como sospechosas de prostitución.  No pocas veces mujeres dominicanas que visitan España han sido desconsideradas en los aeropuerto por las autoridades migratorias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99ff"/>
                </a:solidFill>
                <a:latin typeface="Baskerville Old Face"/>
              </a:rPr>
              <a:t>En los países mas desarrollados los inmigrantes latinos americanos incluyendo los dominicanos son tratados con rechazos asegurando qu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d90519"/>
                </a:solidFill>
                <a:latin typeface="Baskerville Old Face"/>
              </a:rPr>
              <a:t>“llegan al país quitarle los trabajos a los ciudadanos, porque trabajan por centavos, dañan el mercado laboral; son indocumentados que van a utilizar los servicios públicos del país; son delincuentes y peligrosos; no respetan las leyes y andan por las calles como si este fuera el país de ellos; el colmo es que también reclaman derechos””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Baskerville Old Face"/>
              </a:rPr>
              <a:t>Una gran mayoría de los latinos de Estados Unidos considera que la discriminación es grave en la comunidad y una tercera parte manifiesta que conoce casos concretos de discriminación, si es que no la ha sufrido en carne propi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ff"/>
                </a:solidFill>
                <a:latin typeface="Baskerville Old Face"/>
              </a:rPr>
              <a:t>En resumen, el 82% dice que la discriminación es el principal problema que les impide tener éxito en general, a la vez que el 83% atribuye la discriminación que sufren a los propios latinos y casi la mitad, el 47%, califica de severo el problem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En los Estados Unidos la discriminación tiene un límite, que son los derechos humanos, cuando las prácticas discriminatorias llegan a su frontera, hay quienes hacen oír su voz y la detienen, como lo hizo Cesar E. Chávez en los años 60s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d90519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90519"/>
                </a:solidFill>
                <a:latin typeface="Baskerville Old Face"/>
              </a:rPr>
              <a:t>En conclusión</a:t>
            </a:r>
            <a:r>
              <a:rPr b="0" lang="en-US" sz="3200" spc="-1" strike="noStrike">
                <a:solidFill>
                  <a:srgbClr val="3399ff"/>
                </a:solidFill>
                <a:latin typeface="Baskerville Old Face"/>
              </a:rPr>
              <a:t> podemos aprender a través de este tema que la discriminación a existido siempre, tanto en países desarrollados como en nuestro propio país, es una realidad que forma parte de nuestro diario vivir y lo es también de nuestro cultura; pero que bueno que también existen los derechos humanos que de alguna forma u otra nos libra de algunos de los maltratos que nos hacen por ser latinos o inferiores a otros países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90519"/>
                </a:solidFill>
                <a:latin typeface="Baskerville Old Face"/>
              </a:rPr>
              <a:t>Situación</a:t>
            </a:r>
            <a:r>
              <a:rPr b="1" lang="en-US" sz="4000" spc="-1" strike="noStrike">
                <a:solidFill>
                  <a:srgbClr val="d90519"/>
                </a:solidFill>
                <a:latin typeface="Baskerville Old Face"/>
              </a:rPr>
              <a:t> </a:t>
            </a:r>
            <a:r>
              <a:rPr b="0" lang="en-US" sz="4000" spc="-1" strike="noStrike">
                <a:solidFill>
                  <a:srgbClr val="d90519"/>
                </a:solidFill>
                <a:latin typeface="Baskerville Old Face"/>
              </a:rPr>
              <a:t>de Discriminación de la Sociedad Dominicana ante América y el Mundo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979640" y="2060640"/>
            <a:ext cx="5079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763640" y="2349360"/>
            <a:ext cx="6264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d90519"/>
                    </a:gs>
                    <a:gs pos="100000">
                      <a:srgbClr val="3399f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Baskerville Old Face"/>
              </a:rPr>
              <a:t>Gracias!!</a:t>
            </a:r>
            <a:endParaRPr b="0" lang="en-US" sz="5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d90519"/>
                  </a:gs>
                  <a:gs pos="100000">
                    <a:srgbClr val="3399ff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Baskerville Old Face"/>
              <a:ea typeface="Baskerville Old Fa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90519"/>
                </a:solidFill>
                <a:latin typeface="Baskerville Old Face"/>
              </a:rPr>
              <a:t>Aprendizaje esperado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Comprender el proceso de discriminación en el mun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Arial"/>
              </a:rPr>
              <a:t>-Identificar los elementos que lo hacen parte de la cultu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90519"/>
                </a:solidFill>
                <a:latin typeface="Baskerville Old Face"/>
              </a:rPr>
              <a:t>Discriminación</a:t>
            </a:r>
            <a:endParaRPr b="0" lang="en-US" sz="5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91344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Discriminar significa diferenciar, distinguir, separar una cosa de otra</a:t>
            </a:r>
            <a:r>
              <a:rPr b="0" lang="es-ES_tradnl" sz="3600" spc="-1" strike="noStrike">
                <a:solidFill>
                  <a:srgbClr val="3399ff"/>
                </a:solidFill>
                <a:latin typeface="Baskerville Old Face"/>
              </a:rPr>
              <a:t>.</a:t>
            </a: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 La discriminación es una situación en la que una persona o grupo es tratada de forma desfavorable a causa de prejuicios, generalmente por pertenecer a una categoría social distinta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La mayor parte de los países practican la discriminación contra extranjeros y otras minorías dentro de sus fronteras. Esta discriminación puede ser por razones de</a:t>
            </a:r>
            <a:r>
              <a:rPr b="0" lang="es-ES" sz="3600" spc="-1" strike="noStrike">
                <a:solidFill>
                  <a:srgbClr val="ffffff"/>
                </a:solidFill>
                <a:latin typeface="Arial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az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Sex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eligió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Rango Socioeconómic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E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Discapacida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99ff"/>
                </a:solidFill>
                <a:latin typeface="Baskerville Old Face"/>
              </a:rPr>
              <a:t>el racismo y la xenofobia son problemas graves que tienen planteados en la actualidad países de mayor actividad económica como son los Estados Unidos y países de Europa.</a:t>
            </a:r>
            <a:r>
              <a:rPr b="0" lang="es-ES_tradnl" sz="3600" spc="-1" strike="noStrike">
                <a:solidFill>
                  <a:srgbClr val="3399ff"/>
                </a:solidFill>
                <a:latin typeface="Baskerville Old Face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99ff"/>
              </a:buClr>
              <a:buFont typeface="Baskerville Old Fac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Baskerville Old Face"/>
              </a:rPr>
              <a:t>Se estima que cerca de un 12 por ciento de los dominicanos viven en países extranjeros.  casi un millón en los Estados Unidos, unos 78 mil en Puerto Rico y unos 50 mil en España, por mencionar solo los tres grupos mas grandes 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4T21:57:54Z</dcterms:created>
  <dc:creator>WinuE</dc:creator>
  <dc:description/>
  <dc:language>en-US</dc:language>
  <cp:lastModifiedBy>dennis</cp:lastModifiedBy>
  <dcterms:modified xsi:type="dcterms:W3CDTF">2011-03-15T03:08:01Z</dcterms:modified>
  <cp:revision>6</cp:revision>
  <dc:subject/>
  <dc:title>Diapositiva 1</dc:title>
</cp:coreProperties>
</file>